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831D-41AB-473A-83A6-78D63C5AB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5488-4379-47B9-9FEF-F8E8E9270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DECA-7EEC-4497-A734-8B8CE440F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7BD3-87D0-4CC9-8C94-1D791A078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541F-A46C-4ED2-890D-614B0DEA8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35A4-EF88-4CC5-82FD-F556D5E86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494B-C7CA-45D0-AFB7-8A0153553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8847-F26C-4EC2-97EB-7B0F596BE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07CE-F6DE-46CA-9545-2BDF1B161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AFC4-318E-4AF3-872E-703F1F332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A315-1E84-4711-BAC2-CF4BE642E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7083-BA31-435B-BA84-9746746BE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8569-D40D-4A56-B094-0EB423B97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DCE1-193E-4C93-B4B5-699D41BAE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9273-720C-4931-AAFA-49E07253C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BDBB-B9B2-4A78-A860-D76C5D513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FAD6-829D-4797-8B81-0E2C0BB8B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8E0B-06C4-4ED2-B778-87D09B96B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A9E2-20D9-4E8A-86E3-8E55BE86D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4B55-EB47-4051-89EE-06371F2CA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8A19-452E-4C3B-8AD5-9C52AE2E1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6560-ADF9-49D0-ADFF-17E374EC7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43E71-4012-4B99-B34F-5223F48B02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824AE-58A9-47F3-90F5-44D19FBC11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65063-4671-41A1-B0C0-00CA7B02FA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333D0-12E1-4082-95AE-A2BF63E21E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05C4-A60F-45FE-9BE4-0878A91272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0AFB-5A3A-4405-B9B0-B185384930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B136-46D0-41BC-9990-CDD6A7FAF8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718A-8DD6-4947-8029-BEF30B8903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FA5E-7FB3-4049-B1DE-F2BE62F914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6CC5-A519-45FE-8CB3-C8FD542EFB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E632-172C-43BE-B116-A7B33E6331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2B10F-86F5-418E-AD7B-8AF7FD5E26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740C-CC2E-4149-A5DA-3F8289E8AB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A72A-6EF9-4E5A-821E-93D595DBCA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EBC6-62A0-499D-A9C6-C880465CFBF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B780-7FD5-4B6F-A679-A6AC1D3576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FBC6-93E8-488C-A3D0-34FFFE3287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24E53-ACBD-40A4-9726-D4B649D9A8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9EEDF-B187-47EC-9A74-013420266A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71CFC-25F2-4B2C-9F1A-98ACE6EE71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CBD97-FA8B-4B38-B5B0-5133C81E53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C7D31-03CE-4811-AE9F-F2E14650D1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D133D-3BFE-4B30-9C6E-1FD95B5090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F8B57-4EAB-4A37-8D77-28505B81F9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DFFD-E365-4C91-A3AB-90CABE93BC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F5FF-F110-4DFD-B9E3-5E1ED390C2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B1A8-F8BE-4B1A-AA1B-ADF331A3CA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Contrôle Qualité :  </a:t>
            </a:r>
            <a:br>
              <a:rPr sz="3600"/>
            </a:b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Diagnostics molé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8065-0F50-4530-80DC-3A4FDBDAFF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484F-55B0-440A-87B6-B45188625E6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ltat négatif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AE02-8DAF-4ACA-B79A-B0BE1AE1D4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69D6-5480-4E9F-B233-9856A5CC7507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isques avec la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plupart des RT-PCR sont faîtes « sur place 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primers ne sont pas nécessairement optimisés pour le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contrôles positifs sont « maison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contrôles négatifs sont « maison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interprétation des tests a besoin d’être faite prudem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9FB3-00E4-4238-942F-E3764E491F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9061-1234-4648-87D6-F247BA436C18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Vue généra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Prélèvement, transport, et traitement de l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intenir l’intégrité des acides nucléique à travers tous le process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Contrôle de la contamin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un circuit unidirectionnel de la zone de préparation des réactifs (ADN free) à la zone de traitement de l’échantillon, à la zone d’amplification et de détec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Contrôles positif et négati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Référence: CLSI MM3-A (Méthode de diagnostic moléculaire pour les maladies infectieu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E0E7-3224-4549-B9F3-3E0FFB2108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DC5A-982B-416E-A789-62C1B5DAFD34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Qualité: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iagnostics molé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6315-1884-4DD5-9E69-4DACE91D8F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E124-D96C-4DBE-AF07-DA9566B51A3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EB08-8AC5-41BE-A325-48783EAD14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40A7-1C33-41C0-B8F9-4CFA38D5D514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al Time-PCR (temps réel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Oval 3"/>
          <p:cNvSpPr/>
          <p:nvPr/>
        </p:nvSpPr>
        <p:spPr>
          <a:xfrm>
            <a:off x="152280" y="1600200"/>
            <a:ext cx="14479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ECHANTIL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Cible AN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 amplifié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 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AEA5-446D-46FC-A3FA-D78A057021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2B2A-8542-4482-ABC2-7F50D30AD798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actions d’amplif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Amplification / Te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5412600" y="4724280"/>
            <a:ext cx="23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PAS d’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2222-951A-4800-9B4C-177E1EFE2B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9E51-55AC-46FF-A836-B22382E2424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228600" y="1305000"/>
            <a:ext cx="8153280" cy="49528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2"/>
          <p:cNvSpPr/>
          <p:nvPr/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al Time-PCR (temps rée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7759-BA4E-41BE-8879-29CB8F91C5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9200-9C20-4909-8344-CBF7192A19D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C570-5332-4B78-8F07-9E1305D0EB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3762-4E12-4789-A8C4-87CF878F4DB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dolmazonv</cp:lastModifiedBy>
  <dcterms:modified xsi:type="dcterms:W3CDTF">2010-04-08T14:42:55Z</dcterms:modified>
  <cp:revision>7</cp:revision>
  <dc:subject/>
  <dc:title>Quality Control:   Molecular Diagnostics</dc:title>
</cp:coreProperties>
</file>